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5B4EA-1490-43E3-83A6-E4AD3DAA0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51F95-4078-4D75-8243-611DAEEDF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16A28-97E4-4E54-B796-A6E06FF78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351CE-4D86-4601-A69B-E3739041E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79736-A423-45D8-BE84-B09972B2A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75083-32C8-4925-A416-23DA664AE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B8286-9220-4270-B906-CC4ED2726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88413-6878-42A5-BA66-2F406AB7C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4269D-8C01-4900-9494-75EF56238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19D61-BF58-4C24-A797-CA2F5CF64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D46D7-6BA8-45B4-84B6-FE07091A0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7B631-C509-4F02-A811-8665D8721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F756B-E2F3-474A-B60E-7BC0F6A7D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25AF0-CE22-4145-AE1D-A4106FB6B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85A73-4439-4FE2-BE1C-69B78BF9E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6B266-FAC5-4EB5-AF7C-5B695BD1B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726A8-F1F0-4B8D-A7A3-99E517BD9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BEBD8-56CD-4115-9393-D351B72A5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CC31C-03D6-4069-B6A9-71C8FF1C2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65435-8B74-4449-91BB-E0C83E8CF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45415-9FA9-4FD6-8221-A71D0290F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8973-A4E6-41E9-A519-5D3093DC5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AFA4-54DF-4747-9289-9AC68CB1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0266-FD0C-4E65-B30D-2810AFF25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58EE-EA1B-40C3-AAEF-9BA9A23933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F030-9BC6-4469-B715-EC6DE9E22E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randolph6socialstudies.wikispaces.co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Ancient Civilizations</a:t>
            </a:r>
            <a:endParaRPr b="1" lang="en-US" sz="5400" spc="-1" strike="noStrike">
              <a:solidFill>
                <a:srgbClr val="ffffb7"/>
              </a:solidFill>
              <a:latin typeface="Arial Black"/>
            </a:endParaRPr>
          </a:p>
        </p:txBody>
      </p:sp>
      <p:sp>
        <p:nvSpPr>
          <p:cNvPr id="100"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baseline="30000">
                <a:solidFill>
                  <a:srgbClr val="000000"/>
                </a:solidFill>
                <a:latin typeface="Arial"/>
              </a:rPr>
              <a:t>th</a:t>
            </a:r>
            <a:r>
              <a:rPr b="0" lang="en-US" sz="3200" spc="-1" strike="noStrike">
                <a:solidFill>
                  <a:srgbClr val="000000"/>
                </a:solidFill>
                <a:latin typeface="Arial"/>
              </a:rPr>
              <a:t> Grade 2010-2011</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Evans</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5720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Black"/>
              </a:rPr>
              <a:t>Class Expectations cont’d</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Use handwriting that is legible</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ollow written and spoken directions carefully</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k questions when you need help or more information</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Be mature and responsible enough to do all of these things without needing to be reminded</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No question is too “dumb” to ask</a:t>
            </a:r>
            <a:r>
              <a:rPr b="0" lang="en-US" sz="2800" spc="-1" strike="noStrike">
                <a:solidFill>
                  <a:srgbClr val="ff3300"/>
                </a:solidFill>
                <a:latin typeface="Arial"/>
              </a:rPr>
              <a:t>, and no one should be afraid to raise their hand to voice their opinion or ask a question.</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member the golden rule: Treat others the way that you want to be tre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ehavior and Consequences</a:t>
            </a:r>
            <a:endParaRPr b="1" lang="en-US" sz="40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Should you </a:t>
            </a:r>
            <a:r>
              <a:rPr b="0" i="1" lang="en-US" sz="2000" spc="-1" strike="noStrike">
                <a:solidFill>
                  <a:srgbClr val="008000"/>
                </a:solidFill>
                <a:latin typeface="Arial"/>
              </a:rPr>
              <a:t>choose</a:t>
            </a:r>
            <a:r>
              <a:rPr b="0" lang="en-US" sz="2000" spc="-1" strike="noStrike">
                <a:solidFill>
                  <a:srgbClr val="008000"/>
                </a:solidFill>
                <a:latin typeface="Arial"/>
              </a:rPr>
              <a:t> to misbehave, there will be consequences.</a:t>
            </a:r>
            <a:br>
              <a:rPr sz="2000"/>
            </a:br>
            <a:r>
              <a:rPr b="0" lang="en-US" sz="2000" spc="-1" strike="noStrike">
                <a:solidFill>
                  <a:srgbClr val="008000"/>
                </a:solidFill>
                <a:latin typeface="Arial"/>
              </a:rPr>
              <a:t>Any first-time offender will receive a warning.  Continual misbehavior will result in a stronger consequence.  The Middle School demerit and infraction system will be used in this class.  (see p. 22 in student handbook)</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Demerit = loss of recess </a:t>
            </a:r>
            <a:endParaRPr b="0" lang="en-US" sz="20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10 = after school detention)</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Tardiness, gum chewing, dress code violations, misuse of school equipment, being rude and disrespectful to others</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nfraction = loss of lunch and recess; note home </a:t>
            </a:r>
            <a:endParaRPr b="0" lang="en-US" sz="20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 = after school detention)</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Offensive language, defiance, dangerous behavior</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Grading Criteria</a:t>
            </a:r>
            <a:endParaRPr b="1" lang="en-US" sz="5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class is separated into 5 categories for scoring, each with its own weight:</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work 20%</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mework 10%</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s 20%</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zzes 20%</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s 30%</a:t>
            </a:r>
            <a:endParaRPr b="0" lang="en-US" sz="3200" spc="-1" strike="noStrike">
              <a:solidFill>
                <a:srgbClr val="ffffff"/>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5214960" y="1904760"/>
            <a:ext cx="3929040" cy="4190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Home/School Connection</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xpect that I will be in frequent contact with your parents/families, not only to inform them of misbehavior, but also to tell them how well you are doing, what we are up to in class, and if or how they can help.</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e will be using technology to communicate.  Use it wis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Main Idea</a:t>
            </a:r>
            <a:endParaRPr b="1" lang="en-US" sz="5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success of our classroom society and the journey that we will take together depends on the </a:t>
            </a:r>
            <a:r>
              <a:rPr b="0" lang="en-US" sz="4400" spc="-1" strike="noStrike">
                <a:solidFill>
                  <a:srgbClr val="ff0000"/>
                </a:solidFill>
                <a:latin typeface="Arial"/>
                <a:ea typeface="Tahoma"/>
              </a:rPr>
              <a:t>commitment of each and every one of us to our common goal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34"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Our Class Is a Society Made Up of Different Cultures and Different Values</a:t>
            </a:r>
            <a:endParaRPr b="1" lang="en-US" sz="36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lebrate the similarities, RESPECT the differences</a:t>
            </a:r>
            <a:endParaRPr b="0" lang="en-US" sz="4400" spc="-1" strike="noStrike">
              <a:solidFill>
                <a:srgbClr val="ffffff"/>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nSpc>
                <a:spcPct val="90000"/>
              </a:lnSpc>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n your mind and really LISTEN to the viewpoints of other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e Are on this Journey Together</a:t>
            </a:r>
            <a:endParaRPr b="1" lang="en-US" sz="4400" spc="-1" strike="noStrike">
              <a:solidFill>
                <a:srgbClr val="ffffb7"/>
              </a:solidFill>
              <a:latin typeface="Arial Black"/>
            </a:endParaRPr>
          </a:p>
        </p:txBody>
      </p:sp>
      <p:sp>
        <p:nvSpPr>
          <p:cNvPr id="106"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will be given an opportunity to make their VOICE hear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ctions and the reactions of those around you are the results of CHOICES you make </a:t>
            </a:r>
            <a:endParaRPr b="0" lang="en-US" sz="2800" spc="-1" strike="noStrike">
              <a:solidFill>
                <a:srgbClr val="ffffff"/>
              </a:solidFill>
              <a:latin typeface="Arial"/>
            </a:endParaRPr>
          </a:p>
        </p:txBody>
      </p:sp>
      <p:sp>
        <p:nvSpPr>
          <p:cNvPr id="107"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power of voice and the freedom of choice comes great RESPONSIBIL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eys to Succes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 yourself and oth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 to others and your conscie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VOICE positivel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first and make good CHOIC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RESPONSIBILITY for your actions, your success, and the group’s suc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924600"/>
          </a:xfrm>
          <a:prstGeom prst="rect">
            <a:avLst/>
          </a:prstGeom>
          <a:ln w="0">
            <a:noFill/>
          </a:ln>
        </p:spPr>
      </p:pic>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Our Journey Through the Ancient World</a:t>
            </a:r>
            <a:endParaRPr b="1" lang="en-US" sz="3200" spc="-1" strike="noStrike">
              <a:solidFill>
                <a:srgbClr val="ffffb7"/>
              </a:solidFill>
              <a:latin typeface="Arial Black"/>
            </a:endParaRPr>
          </a:p>
        </p:txBody>
      </p:sp>
      <p:sp>
        <p:nvSpPr>
          <p:cNvPr id="113"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we use an interactive approach to study the many different civilizations, cultures, and stories of the ancient world you will be asked to:</a:t>
            </a:r>
            <a:endParaRPr b="0" lang="en-US" sz="3200" spc="-1" strike="noStrike">
              <a:solidFill>
                <a:srgbClr val="ffffff"/>
              </a:solidFill>
              <a:latin typeface="Arial"/>
            </a:endParaRPr>
          </a:p>
        </p:txBody>
      </p:sp>
      <p:sp>
        <p:nvSpPr>
          <p:cNvPr id="114" name="PlaceHolder 3"/>
          <p:cNvSpPr>
            <a:spLocks noGrp="1"/>
          </p:cNvSpPr>
          <p:nvPr>
            <p:ph/>
          </p:nvPr>
        </p:nvSpPr>
        <p:spPr>
          <a:xfrm>
            <a:off x="5562360" y="1904760"/>
            <a:ext cx="3282840" cy="1904760"/>
          </a:xfrm>
          <a:prstGeom prst="rect">
            <a:avLst/>
          </a:prstGeom>
          <a:noFill/>
          <a:ln w="0">
            <a:noFill/>
          </a:ln>
        </p:spPr>
        <p:txBody>
          <a:bodyPr lIns="90000" rIns="90000" tIns="46800" bIns="46800" anchor="t">
            <a:normAutofit fontScale="42000"/>
          </a:bodyPr>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ore</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yze</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itique</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cuss</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estion</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rehend</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ply</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ethods</a:t>
            </a:r>
            <a:endParaRPr b="1" lang="en-US" sz="4400" spc="-1" strike="noStrike">
              <a:solidFill>
                <a:srgbClr val="ffffb7"/>
              </a:solidFill>
              <a:latin typeface="Arial Black"/>
            </a:endParaRPr>
          </a:p>
        </p:txBody>
      </p:sp>
      <p:sp>
        <p:nvSpPr>
          <p:cNvPr id="117"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order to ensure a fruitful journey, we will use several different methods and undertake a wide variety of tasks, including:</a:t>
            </a:r>
            <a:endParaRPr b="0" lang="en-US" sz="2800" spc="-1" strike="noStrike">
              <a:solidFill>
                <a:srgbClr val="ffffff"/>
              </a:solidFill>
              <a:latin typeface="Arial"/>
            </a:endParaRPr>
          </a:p>
        </p:txBody>
      </p:sp>
      <p:sp>
        <p:nvSpPr>
          <p:cNvPr id="118" name="PlaceHolder 3"/>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jec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entat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bques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operative Learn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earch Pap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p Wor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ebsite</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the “wiki page” website (</a:t>
            </a:r>
            <a:r>
              <a:rPr b="0" lang="en-US" sz="2800" spc="-1" strike="noStrike" u="sng">
                <a:solidFill>
                  <a:srgbClr val="99ff66"/>
                </a:solidFill>
                <a:uFillTx/>
                <a:latin typeface="Arial"/>
                <a:hlinkClick r:id="rId2"/>
              </a:rPr>
              <a:t>http://randolph6socialstudies.wikispaces.com/</a:t>
            </a:r>
            <a:r>
              <a:rPr b="0" lang="en-US" sz="2800" spc="-1" strike="noStrike" u="sng">
                <a:solidFill>
                  <a:srgbClr val="ffffff"/>
                </a:solidFill>
                <a:uFillTx/>
                <a:latin typeface="Arial"/>
              </a:rPr>
              <a:t>)</a:t>
            </a:r>
            <a:r>
              <a:rPr b="0" lang="en-US" sz="2800" spc="-1" strike="noStrike">
                <a:solidFill>
                  <a:srgbClr val="ffffff"/>
                </a:solidFill>
                <a:latin typeface="Arial"/>
              </a:rPr>
              <a:t> closely, as changes will be made everyday to the si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use the site to ask questions about assignments, explore other areas of Ancient World Civilization, and discuss various topics of the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ff"/>
                </a:solidFill>
                <a:latin typeface="Arial Black"/>
              </a:rPr>
              <a:t>Daily Procedures</a:t>
            </a:r>
            <a:endParaRPr b="1" lang="en-US" sz="60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ach day will bring something new.  However, these things should happen everyday:</a:t>
            </a:r>
            <a:endParaRPr b="0" lang="en-US" sz="32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seated when class begins</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ad the board and listen for important instructions</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prepared for the day’s activities</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ipate actively in the lesson</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sten for homework assignment</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seated and wait to be dismi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244440"/>
            <a:ext cx="83851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Black"/>
              </a:rPr>
              <a:t>Class Expectations</a:t>
            </a:r>
            <a:endParaRPr b="1" lang="en-US" sz="4400" spc="-1" strike="noStrike">
              <a:solidFill>
                <a:srgbClr val="ffffb7"/>
              </a:solidFill>
              <a:latin typeface="Arial Black"/>
            </a:endParaRPr>
          </a:p>
        </p:txBody>
      </p:sp>
      <p:sp>
        <p:nvSpPr>
          <p:cNvPr id="127" name="PlaceHolder 2"/>
          <p:cNvSpPr>
            <a:spLocks noGrp="1"/>
          </p:cNvSpPr>
          <p:nvPr>
            <p:ph/>
          </p:nvPr>
        </p:nvSpPr>
        <p:spPr>
          <a:xfrm>
            <a:off x="456840" y="1295280"/>
            <a:ext cx="800748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Be in your seat and ready to begin class on tim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o talking unless you are called upon (</a:t>
            </a:r>
            <a:r>
              <a:rPr b="1" lang="en-US" sz="2800" spc="-1" strike="noStrike">
                <a:solidFill>
                  <a:srgbClr val="ff3300"/>
                </a:solidFill>
                <a:latin typeface="Arial"/>
              </a:rPr>
              <a:t>“Three Strikes Rule”</a:t>
            </a:r>
            <a:r>
              <a:rPr b="0" lang="en-US" sz="2800" spc="-1" strike="noStrike">
                <a:solidFill>
                  <a:srgbClr val="ff3300"/>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o getting up in the middle of class without permiss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eave your area exactly the way you found it at the beginning of the day.</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ave all your supplies with you when you come into the classroom. No leaving to go get materials once class has started!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plete all assignments yourself to the best of your ab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00:37:16Z</dcterms:created>
  <dc:creator>Victor Evans</dc:creator>
  <dc:description/>
  <dc:language>en-US</dc:language>
  <cp:lastModifiedBy>Victor Evans</cp:lastModifiedBy>
  <dcterms:modified xsi:type="dcterms:W3CDTF">2010-08-11T02:27:29Z</dcterms:modified>
  <cp:revision>57</cp:revision>
  <dc:subject/>
  <dc:title>Slide 1</dc:title>
</cp:coreProperties>
</file>